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7B8-DFDA-4757-AD8B-10B88841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206-FEC3-4224-80DF-8622283A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DD7-0FA1-4257-8187-38953886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3F6-2C99-4252-8E40-49E5DF42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EC0-FF7E-40E2-ADA7-05E6D094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F43-B6CD-443D-97E3-A2DE8D0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B2A-2D0F-4889-889B-2C6E002A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611-339F-48AC-9810-968CBFA5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3BF-F0AF-498D-A4A3-DBB47AB2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8F0-5190-462A-B08B-DF01F7D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A77-3E3D-4468-9DCF-BD1ECEC1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49A-D8BB-4DD8-BAE4-DE8FBB3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8390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74BD-02FF-425D-A627-65B3ED6AF2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60280" y="901800"/>
            <a:ext cx="63374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Fingerprint Time&amp;Attendance System(FpWork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Installation Guide(Ver2.xx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3276720"/>
            <a:ext cx="627516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33360" y="1116000"/>
            <a:ext cx="621972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art Program Instal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put Program Installation CD to CD_ROM driv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ation screen will appear after Setup.exe is process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 program as checking step-by-step process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505320"/>
            <a:ext cx="6000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44640" y="808344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ogram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3352680"/>
          <a:ext cx="5790960" cy="435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352680"/>
                    <a:ext cx="579096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794-AF0B-46D5-A7E3-D2213086E0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73360" y="779616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icense agreemen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52520" y="1332000"/>
            <a:ext cx="5929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icense Agre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heck thoroughly since this agreement has the same effect as Program Use agreement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ress [Yes] if you agree with contents. It will finish install if you disagre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3075120"/>
          <a:ext cx="5638680" cy="42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75120"/>
                    <a:ext cx="563868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6A0-56A0-4793-9C6B-D0A65891E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et program installation pat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et install location for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ress  [Browse…] and choose the location to install program in other loc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move next step after installation location is se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8153280"/>
            <a:ext cx="554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nstall path setting screen 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3276720"/>
          <a:ext cx="5715000" cy="42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7672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1FE-5492-422D-8595-F5ECEFB665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rogram Installation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opy files for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Please wait until the process is finish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92280" y="7956720"/>
            <a:ext cx="55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nstallation process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09480" y="2941560"/>
          <a:ext cx="5715000" cy="429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41560"/>
                    <a:ext cx="5715000" cy="42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91924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7F8-8026-4ABF-BA6A-00275973A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843280" y="152280"/>
            <a:ext cx="38624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Instal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inish Program Install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&amp;A program install is finish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Refer to the user’s guide for program u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692280" y="7956720"/>
            <a:ext cx="55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ish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2808360"/>
          <a:ext cx="5790960" cy="435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08360"/>
                    <a:ext cx="57909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106-F89E-456A-9A58-1B906E0488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39680" y="2905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905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213000" y="152280"/>
            <a:ext cx="31878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Program Remov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332000"/>
            <a:ext cx="5857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Program Remov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tart-&gt;T&amp;A Program-&gt;remove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Fp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Wor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All set program will be remov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Back up data to preserve existing database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692280" y="8299440"/>
            <a:ext cx="5545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ogram removal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3276720"/>
          <a:ext cx="5639040" cy="42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76720"/>
                    <a:ext cx="563904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4D4-194B-41AA-8338-52AAE2FCD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7T07:34:51Z</dcterms:modified>
  <cp:revision>48</cp:revision>
  <dc:subject/>
  <dc:title>PowerPoint 프레젠테이션</dc:title>
</cp:coreProperties>
</file>