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6858000" cy="9144000"/>
  <p:notesSz cx="6807200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CED-C4A7-43CF-9CB0-64A7F9A5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F71-EA6C-492C-A73C-95EAA9FD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D92-E73A-4B59-990F-907C786D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8AA-A661-4243-A4BC-A246094A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82C2-DEB6-44CA-9736-BC67AB3B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289-28A1-4F81-BBDA-4FCA59C1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FDA-4473-4320-ADE0-3D4BF2BA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09E3-2F3B-497B-AE7A-3FA977B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14440" y="810720"/>
            <a:ext cx="5829120" cy="70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D8E-7FF6-4623-A5D0-11D51CF8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247-0E31-4A83-ACEF-C360A25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CB6-3785-42F7-B6C6-019BAEA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35C-78C4-4506-8801-CABF77B5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0720"/>
            <a:ext cx="5829120" cy="15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2920"/>
            <a:ext cx="142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2920"/>
            <a:ext cx="217152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28800" y="8840880"/>
            <a:ext cx="14288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422E-211A-4738-B790-4D15C718C0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36360" y="34920"/>
          <a:ext cx="1447920" cy="43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60" y="34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7560" y="900000"/>
            <a:ext cx="57610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Fingerprint Authentic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Time &amp; Attendance System (FpWork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굴림"/>
              </a:rPr>
              <a:t>User’s guide (Ver 2.xx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49360" y="8109000"/>
            <a:ext cx="5761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  Basic  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1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60280" y="900000"/>
            <a:ext cx="6408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You can set “off-day” only after registering off 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off-day means regular off-day (ex. Sunday). And it is different from holi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“Process option if work in” is how to process working time during ‘off-day’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Ignore working hours: Ignore attendance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Usual daily working T&amp;A: Process it as usual working da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Usual off-day: Calculate every working time and add up into off-day working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The code of working day, off-day, holiday, vacation, business trip should be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differen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7. Register off-da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136600" y="8001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Off-day registr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905280" y="349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4" name="10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6238800" cy="454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A86-8C8D-478C-81B5-7F6565062B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8. Register holida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8229600"/>
            <a:ext cx="3124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Holiday working registration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60280" y="900000"/>
            <a:ext cx="6408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t holiday only after registering holiday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fer to the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T&amp;A time setting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for holiday T&amp;A sett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Holiday have priority over off-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 code of working day, off-day, holiday, vacation, business trip should b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 different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4920"/>
            <a:ext cx="29275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9" name="공휴일근태" descr=""/>
          <p:cNvPicPr/>
          <p:nvPr/>
        </p:nvPicPr>
        <p:blipFill>
          <a:blip r:embed="rId1"/>
          <a:stretch/>
        </p:blipFill>
        <p:spPr>
          <a:xfrm>
            <a:off x="304920" y="3191040"/>
            <a:ext cx="6229080" cy="488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531-124A-4D4F-8B42-6218D3BB4B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60280" y="97164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ould register all kinds of vacation and use them for schedul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9. Register va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773360" y="414036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vacation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1844640" y="867564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business trip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33280" y="5146560"/>
            <a:ext cx="633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You could register all kinds of vacation and use them for schedul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-27000" y="4859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0. Register Business tr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7" name="12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3581640" cy="3008160"/>
          </a:xfrm>
          <a:prstGeom prst="rect">
            <a:avLst/>
          </a:prstGeom>
          <a:ln w="0">
            <a:noFill/>
          </a:ln>
        </p:spPr>
      </p:pic>
      <p:pic>
        <p:nvPicPr>
          <p:cNvPr id="108" name="13" descr=""/>
          <p:cNvPicPr/>
          <p:nvPr/>
        </p:nvPicPr>
        <p:blipFill>
          <a:blip r:embed="rId2"/>
          <a:stretch/>
        </p:blipFill>
        <p:spPr>
          <a:xfrm>
            <a:off x="1523880" y="5562720"/>
            <a:ext cx="3657600" cy="30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951-5D97-4946-B3BF-A69A8D2D9C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280" y="898560"/>
            <a:ext cx="633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o set work schedule of chosen employ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Setting Period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button after setting period of T&amp;A schedu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nput screen which is possible to input T&amp;A code directly is appear when you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double click the item or use right-side button of the mouse. Input T&amp;A cod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You can change the date by using up-down curso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employees registered on employee list when you select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And select the employee. (Check all employees when you choose all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o save all settings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Save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butt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(The working schedule will not be saved before you save setting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1128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.  Work schedule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2060640" y="822960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epartment T&amp;A setting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14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6319800" cy="469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FAC-5EC3-47DC-8F68-F24100933B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0280" y="971640"/>
            <a:ext cx="63374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lect T&amp;A mode by double-clicking the item or click the right-side butt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of the mouse when changing T&amp;A setting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every T&amp;A(working day, off-day, holiday, vacation, and business trip)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on combo box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– The code will be changed automatically when you select T&amp;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(The code is set as working day-1, off-day-2, holiday-3, vacation-4, busi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trip-5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1. Choose T&amp;A on work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1844640" y="4573440"/>
            <a:ext cx="2808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etting combo box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35640"/>
            <a:ext cx="6524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2. Register T&amp;A code directl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60280" y="5796000"/>
            <a:ext cx="6337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move the input screen by clicking up-down cursor after the input screen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ppear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 code which is input directly have priority over selected T&amp;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re will be an error if there’s something wrong with code like a unregistered cod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484280" y="8439120"/>
            <a:ext cx="41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ode input screen on direct input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4343400" cy="210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6781680"/>
            <a:ext cx="497196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7C1-FC0A-417F-8DDF-C08FFB92B0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0280" y="971640"/>
            <a:ext cx="6337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function to find specific department among all department organiz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all sub-department by clicking [+] tap in front of department n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only can see the department which is registered on department input menu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Press OK button after selecting department. (You can not choose ‘OK’ if you double-click i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1-3. Find Dep’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062080" y="679608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d Dep’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17" descr=""/>
          <p:cNvPicPr/>
          <p:nvPr/>
        </p:nvPicPr>
        <p:blipFill>
          <a:blip r:embed="rId1"/>
          <a:stretch/>
        </p:blipFill>
        <p:spPr>
          <a:xfrm>
            <a:off x="2004840" y="2565360"/>
            <a:ext cx="2846520" cy="40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173-0957-4BB6-87D8-8DD7D1D460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280" y="97164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elect employee by running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Find employee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Date setting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button after setting modifying period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ss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Save]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button after finishing modify T&amp;A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(T&amp;A will not be changed unless you select “save”)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2.  Modify T&amp;A sche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060640" y="853452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chedule modify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1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4510080" cy="65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7F1-F889-4D0E-ADE4-AC919B98AA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60280" y="1185840"/>
            <a:ext cx="6264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see employee number, name, social number of registered employe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and press o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arch employees who have same name by their social number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98560"/>
            <a:ext cx="6669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2-1. Find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7924680"/>
            <a:ext cx="2808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nd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76320"/>
            <a:ext cx="2952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7" name="19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4286160" cy="46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F35-A39A-4484-B428-D0C0E8BE88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280" y="1042920"/>
            <a:ext cx="6337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mport process which import data from FP server database. This function should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preceded for T&amp;A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import attendance data. And the data will reflect modified contents 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dministrator. Check “delete all modify data” if you don’t want to reflect modifi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cont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5564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1.  Import entrance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457200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mport T&amp;A data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60280" y="6012000"/>
            <a:ext cx="6337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administrator can modify T&amp;A recor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Check employee name and period, and click “view data”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data and press delete button to delete records. The record will be initializ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261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2. Modify T&amp;A data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20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4686480" cy="161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1FB-2704-4ABA-A8A3-847A08DC76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0280" y="90000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e when you want to change T&amp;A information or when employee information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chang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on ‘Find employee’ menu. And process T&amp;A after setting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4. Personal T&amp;A proc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4952880"/>
            <a:ext cx="3192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sonal T&amp;A process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21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5565600" cy="2982960"/>
          </a:xfrm>
          <a:prstGeom prst="rect">
            <a:avLst/>
          </a:prstGeom>
          <a:ln w="0">
            <a:noFill/>
          </a:ln>
        </p:spPr>
      </p:pic>
      <p:pic>
        <p:nvPicPr>
          <p:cNvPr id="150" name="22" descr=""/>
          <p:cNvPicPr/>
          <p:nvPr/>
        </p:nvPicPr>
        <p:blipFill>
          <a:blip r:embed="rId2"/>
          <a:stretch/>
        </p:blipFill>
        <p:spPr>
          <a:xfrm>
            <a:off x="685800" y="5715000"/>
            <a:ext cx="5565600" cy="29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A90-5744-478A-83DC-F2587E2787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92280" y="34560"/>
            <a:ext cx="25210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964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476280" y="611280"/>
            <a:ext cx="5977080" cy="83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1. Arrange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-1. Register data (set ODBC)   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-2. Modify data (change ODBC)   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2. Program sett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-1. Program outline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-2. Environment setting  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3. Register T&amp;A informa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. Register Department 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2. Register Position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3. Register employee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4. Register exception time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5. Set exception time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6. Register Workday 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7. Register off-day   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8. Register holyday 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9. Register vacation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0. Register business trip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1. Set T&amp;A schedule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-12. Modify T&amp;A schedule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4. T&amp;A data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1. Import entrance data 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2. Modify entrance data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3. All employee T&amp;A process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4. Personal T&amp;A process  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5. T&amp;A summary   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6. Modify T&amp;A output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-7. Modify T&amp;A summary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5. T&amp;A output 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. Periodic T&amp;A output  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2. Daily T&amp;A output   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3. Personal T&amp;A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4. T&amp;A output summary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5. Absent employee output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6. Late employee output 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7. Leaving employee output 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8. Exit employee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9. Today late employee output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0. Employee info output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1. T&amp;A schedule output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5-12. Transmit T&amp;A output 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-1. Delete data   ---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6-2. Save data   --------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7. Additional inf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-1 Main &amp; Extended program info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7-2 Client customizing info ---------------------------------------------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6B5-6A21-4092-B584-3345EE6385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60280" y="900000"/>
            <a:ext cx="6408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o sum up each item within the period as you set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You can see data of one month automatically when you select the month which you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want to check. Data of one month is appear as you set on [setting configuration]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To set a period when you want to set specific period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5. T&amp;A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989000" y="449568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ummary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291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6. Modify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60280" y="5578560"/>
            <a:ext cx="633744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modify attendance and working time after T&amp;A summary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employee through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Find employee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nd press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fter setting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all changed settings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modify]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fter modification is finished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7" name="월단위처리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5886360" cy="186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F03-ABA6-4235-A253-7AF32E9D24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16280" y="5486400"/>
            <a:ext cx="316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odify T&amp;A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0" name="2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6148440" cy="4309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38080" y="6629400"/>
            <a:ext cx="4991400" cy="144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84A-F5E4-47C4-B4A5-E23140E8BB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30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4-7. Modify T&amp;A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60280" y="1819440"/>
            <a:ext cx="6337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ll T&amp;A summary will appear after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Find employee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and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fter select period you want to summariz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all changed information by pressing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Modify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fter changing item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1125360" y="565164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odify T&amp;A summary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T&amp;A Proces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26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5905440" cy="22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ED6-B168-4007-8509-8EDD663E91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0280" y="1187280"/>
            <a:ext cx="6381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check T&amp;A output after selecting period when T&amp;A process is finish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data of specific employee when you appoint department b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selecting[Find Dept.]. It indicates data of employee in Sub-department categ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when you clicking [include sub-dept.]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port function runs reporting tool which enable to change output data into pri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ormat or various format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.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7772400"/>
            <a:ext cx="2808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iod T&amp;A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1" name="27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6A2-B930-46E8-A940-859BB433FA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280" y="3352680"/>
            <a:ext cx="6477120" cy="4889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73360" y="8459640"/>
            <a:ext cx="35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port prin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362320"/>
            <a:ext cx="936360" cy="504720"/>
          </a:xfrm>
          <a:prstGeom prst="wedgeRoundRectCallout">
            <a:avLst>
              <a:gd name="adj1" fmla="val -8476"/>
              <a:gd name="adj2" fmla="val 1512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int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60280" y="973080"/>
            <a:ext cx="6310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port output data and enable to change format to printing format or etc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ndicates print menu of print function and export menu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1. Report prin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362320"/>
            <a:ext cx="1152720" cy="503280"/>
          </a:xfrm>
          <a:prstGeom prst="wedgeRoundRectCallout">
            <a:avLst>
              <a:gd name="adj1" fmla="val -11296"/>
              <a:gd name="adj2" fmla="val 155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nu for moving scre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352680"/>
            <a:ext cx="172728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362320"/>
            <a:ext cx="936720" cy="504720"/>
          </a:xfrm>
          <a:prstGeom prst="wedgeRoundRectCallout">
            <a:avLst>
              <a:gd name="adj1" fmla="val -80337"/>
              <a:gd name="adj2" fmla="val 15471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xpo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2362320"/>
            <a:ext cx="936720" cy="504720"/>
          </a:xfrm>
          <a:prstGeom prst="wedgeRoundRectCallout">
            <a:avLst>
              <a:gd name="adj1" fmla="val -138981"/>
              <a:gd name="adj2" fmla="val 1521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cre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gnif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352680"/>
            <a:ext cx="201600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362320"/>
            <a:ext cx="1439640" cy="504720"/>
          </a:xfrm>
          <a:prstGeom prst="wedgeRoundRectCallout">
            <a:avLst>
              <a:gd name="adj1" fmla="val -103583"/>
              <a:gd name="adj2" fmla="val 1437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formation of DB tab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C42-2777-44E5-9D7B-D1FDE0EB61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28640" y="421164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rint repor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260280" y="973080"/>
            <a:ext cx="6310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nd output data to registered printer and print i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2. Print re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557360" y="8305920"/>
            <a:ext cx="35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por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260280" y="5221440"/>
            <a:ext cx="63104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o change output data forma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forma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elect the form of destin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see file name when you select ‘Disk file’, and press [OK]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(Input file nam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932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-3. Ex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29-1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4572000" cy="1931760"/>
          </a:xfrm>
          <a:prstGeom prst="rect">
            <a:avLst/>
          </a:prstGeom>
          <a:ln w="0">
            <a:noFill/>
          </a:ln>
        </p:spPr>
      </p:pic>
      <p:pic>
        <p:nvPicPr>
          <p:cNvPr id="192" name="30" descr=""/>
          <p:cNvPicPr/>
          <p:nvPr/>
        </p:nvPicPr>
        <p:blipFill>
          <a:blip r:embed="rId2"/>
          <a:stretch/>
        </p:blipFill>
        <p:spPr>
          <a:xfrm>
            <a:off x="1219320" y="6477120"/>
            <a:ext cx="4446360" cy="15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9D1-2F9F-41A7-B670-677B1ADBE2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60280" y="1042920"/>
            <a:ext cx="6310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 data of all employee as selected T&amp;A dat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2. Daily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2060640" y="378000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aily T&amp;A outpu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635360"/>
            <a:ext cx="6524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3. Personal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2205000" y="815328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personal T&amp;A output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0280" y="4923000"/>
            <a:ext cx="633744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 personal output data of selected employe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6477120" cy="1420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656748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B99-5B7A-44F1-BA55-9E151A3144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75564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4. T&amp;A output summ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1916280" y="3809880"/>
            <a:ext cx="316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output summary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260280" y="1042920"/>
            <a:ext cx="633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hows all T&amp;A data when you select the date and press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Output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3440"/>
            <a:ext cx="652464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5. Absent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260280" y="4862520"/>
            <a:ext cx="633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absent employee. Press output after select perio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department. It indicates data of sub-department when you selec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1198440" y="867744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absent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6477120" cy="1649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6096240" cy="298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BC8-AE6D-4B11-B3BE-2BF1B007018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75564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6.  Late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60280" y="1044720"/>
            <a:ext cx="6337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ate employee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268280" y="4500720"/>
            <a:ext cx="475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ate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148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7. Left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260280" y="5437080"/>
            <a:ext cx="63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eft employe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197000" y="8381880"/>
            <a:ext cx="47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late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5715000" cy="3048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6400800" cy="231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9A0-25DE-4A25-9202-5531039D5A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1128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8. Exit employee data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60280" y="898560"/>
            <a:ext cx="633744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int list about working out of the offic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need to check [process exit time]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916280" y="4284720"/>
            <a:ext cx="28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it employe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260280" y="5148360"/>
            <a:ext cx="6337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late employee until to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possible when the import proces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Be careful when on the import date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85928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9. Today late employee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1989000" y="860256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oday late employee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6477120" cy="2427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636264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6A8A-A1BC-492D-A140-2D5190CD18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8840" y="828720"/>
            <a:ext cx="6410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need to set setting configuration before start the program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need to input password after setting passwor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st import process date” means the last date of entrance record which is imported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rom FPSERVER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st attendance process date” means the final date of the last attendance process. – “Last attendance transfer date” means the final date of the last transfer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attendance dat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Monthly start date” means the start date of the month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Entrance mode” sets which mode needs to be certificated as an entr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If you select “Recognize correct entrance mode”, you can set the entrance ti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freely. It is convenient if you select “Recognize all entrance mode” since a us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don’t need to choose a mode every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Lateness allowing time” regard the lateness &amp; leaving early as a normal attenda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in specific time (unit: minute) that you register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3716280" y="8077320"/>
            <a:ext cx="266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PWORK environment setting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9640"/>
            <a:ext cx="6477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2-2. Setting Configur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292640" y="349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Program Sett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789360" y="4213080"/>
            <a:ext cx="28796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f there is not an attendance data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it will not be processed as latenes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or leaving early when it is regard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as basic attendance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choose whether you calculate pay money or not when you select calculate pay money. Select it when you need it to reduce process overflow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ave the settings by pressing [change]button after finishing environment chang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4" name="2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3310200" cy="419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DAC-C2C1-408F-BDFE-0D75162CB6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003640"/>
            <a:ext cx="6524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1. Print T&amp;A sche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1989000" y="8244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schedule print screen 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260280" y="1255680"/>
            <a:ext cx="63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aking list and print all information of registered staff as departmen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6840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0. Employee info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1989000" y="4282920"/>
            <a:ext cx="2808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mployee info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333360" y="529128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int schedule of employee during specific perio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2600" y="1905120"/>
            <a:ext cx="5695920" cy="2247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95200" y="5881680"/>
            <a:ext cx="6334200" cy="21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174-3D90-483F-AA07-5C49819BA1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5-12. T&amp;A out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260280" y="973080"/>
            <a:ext cx="640872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Transfer processed T&amp;A output and summary to external databas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ODBC should be registered on “FpEmit” for external transferenc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eriod should be per month when select transferring T&amp;A output summary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(date will be ignored)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Previous data registered on period that you select will be deleted before data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transference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5334120"/>
            <a:ext cx="3573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external T&amp;A output transference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74520"/>
            <a:ext cx="252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T&amp;A Out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2" name="41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4606920" cy="172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257-2CD8-4CFE-B456-48B972F1B2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33720" y="5867280"/>
            <a:ext cx="28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elete databas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260280" y="971640"/>
            <a:ext cx="6337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elete previous data to reduce the size of database and make process time faster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– Please be careful to delete data since all entrance and T&amp;A data will be deleted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before deletion time.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You can save data to check [delete after backup]. Refer to 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[6-2. Database </a:t>
            </a: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backup]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Data saving and database compression should be Microsoft Access 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Database (mdb File)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-1. Delete 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7" name="42" descr=""/>
          <p:cNvPicPr/>
          <p:nvPr/>
        </p:nvPicPr>
        <p:blipFill>
          <a:blip r:embed="rId1"/>
          <a:stretch/>
        </p:blipFill>
        <p:spPr>
          <a:xfrm>
            <a:off x="838080" y="3235320"/>
            <a:ext cx="5326200" cy="247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C0B-981B-43FE-830A-43256658C9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60280" y="971640"/>
            <a:ext cx="633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unction to backup database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The name of backup file will be saved on FpWork_DATE(8 digits).mdb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The last database backup date will be today when you select [Save now]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Data saving and database compression should be Microsoft Access 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  Database (mdb File)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6-2. Database backu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057400" y="66294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Database backup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2" name="백업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5086440" cy="350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E26B-CEB9-4EE0-935E-A8E8F33473C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0280" y="971640"/>
            <a:ext cx="63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hows information of main and extend dll program.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84360"/>
            <a:ext cx="652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. Main &amp; extend DLL program info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557360" y="6588000"/>
            <a:ext cx="36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extend dll info.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87280" y="1765440"/>
            <a:ext cx="6310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hows information and version of main program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7000" y="1476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-1. Main program info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4645080"/>
            <a:ext cx="6310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hows information and version of main program and extend dll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44280" y="435600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7-1-2. Extend DLL inf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3670200"/>
            <a:ext cx="367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main program info.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74520"/>
            <a:ext cx="3664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T&amp;A data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44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754520" cy="1096920"/>
          </a:xfrm>
          <a:prstGeom prst="rect">
            <a:avLst/>
          </a:prstGeom>
          <a:ln w="0">
            <a:noFill/>
          </a:ln>
        </p:spPr>
      </p:pic>
      <p:pic>
        <p:nvPicPr>
          <p:cNvPr id="263" name="45" descr=""/>
          <p:cNvPicPr/>
          <p:nvPr/>
        </p:nvPicPr>
        <p:blipFill>
          <a:blip r:embed="rId2"/>
          <a:stretch/>
        </p:blipFill>
        <p:spPr>
          <a:xfrm>
            <a:off x="914400" y="5257800"/>
            <a:ext cx="4892760" cy="113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512-F466-4CC6-BDCE-B4BA950323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0280" y="1981080"/>
            <a:ext cx="633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department is used for data sorting and proc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t is sorted by 2 digits number and the total will be 10 digits(20 digits)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Sub-department will be sorted by sorting code in departme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All department code is 20 digit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The department code of an upper department will not be changed or deleted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o change department name is possibl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692360"/>
            <a:ext cx="6477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1. Register Depart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06440" y="900000"/>
            <a:ext cx="5975280" cy="576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ed information of T&amp;A program can output different result as content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refore you need to understand it fully and do the registration proces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04640" y="8677440"/>
            <a:ext cx="2953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Dept.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60280" y="4067280"/>
            <a:ext cx="633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ndicates employee position as a code for searching and sort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gister positions as the rule of your compan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78000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2. Register Employee posi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789360" y="867744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mployee positio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213000" y="34920"/>
            <a:ext cx="3600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3" descr=""/>
          <p:cNvPicPr/>
          <p:nvPr/>
        </p:nvPicPr>
        <p:blipFill>
          <a:blip r:embed="rId1"/>
          <a:stretch/>
        </p:blipFill>
        <p:spPr>
          <a:xfrm>
            <a:off x="304920" y="5181480"/>
            <a:ext cx="3200400" cy="3351240"/>
          </a:xfrm>
          <a:prstGeom prst="rect">
            <a:avLst/>
          </a:prstGeom>
          <a:ln w="0">
            <a:noFill/>
          </a:ln>
        </p:spPr>
      </p:pic>
      <p:pic>
        <p:nvPicPr>
          <p:cNvPr id="64" name="4" descr=""/>
          <p:cNvPicPr/>
          <p:nvPr/>
        </p:nvPicPr>
        <p:blipFill>
          <a:blip r:embed="rId2"/>
          <a:stretch/>
        </p:blipFill>
        <p:spPr>
          <a:xfrm>
            <a:off x="3733920" y="5181480"/>
            <a:ext cx="2928960" cy="335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170-E6BD-4872-B19C-9E725C63FC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0280" y="971640"/>
            <a:ext cx="633744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gister all employees by their employee number, name, social numb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department, posi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gister all employees since data of unregistered employee will not be processed. - You can output pay money by inputting payment per hour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But you need to select “Calculate pay money” in Environment setting menu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3.  Register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2060640" y="745344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mploye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5" descr=""/>
          <p:cNvPicPr/>
          <p:nvPr/>
        </p:nvPicPr>
        <p:blipFill>
          <a:blip r:embed="rId1"/>
          <a:stretch/>
        </p:blipFill>
        <p:spPr>
          <a:xfrm>
            <a:off x="228600" y="3591000"/>
            <a:ext cx="6372360" cy="372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87B-12BB-4308-9AA0-EC04E14940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60280" y="971640"/>
            <a:ext cx="63374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shows the employee who is registered on FPSERVER but is not registered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FPWO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f you select “Use FP ID as an employee no.”, an employee number will be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same as a registered FP 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84360"/>
            <a:ext cx="652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3-1. Import Employe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3789360" y="34920"/>
            <a:ext cx="3024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060640" y="7812000"/>
            <a:ext cx="2808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Import employee inform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4" name="6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4486320" cy="517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723-AB1E-4D18-B165-4A6FFD0DEA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280" y="898560"/>
            <a:ext cx="6337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xception time means time which is excepted for specific time when you calcul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working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You can choose [except from time1~ to time2], [except time1 after time2]. And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ime1, time2 will be different as your cho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 from time1 to time2: except from time1 to time2 in working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 working time1 to time2:  except time2 period after time1 since start work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1128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4. Register Exception Tim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1773360" y="7696080"/>
            <a:ext cx="33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register exception time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7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5132520" cy="42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7D8-BD15-4F19-BD84-17ACC0EE62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0280" y="971640"/>
            <a:ext cx="6337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is used for register working day, off-day, and holi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“in-time zone” and “out-time zone” is a setting to set attendance time zone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leaving time zone. And the time which is not in those time zone will not be regar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s attend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in-time zone : time zone which is regarded as attendance. And the initial entra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record will be regarded as an attendan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out-time zone : time zone which is regarded as a leaving time. And the final leav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record will be regarded as a leav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time : the working time should be within in-time zone, and it is calcul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as chosen option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exception time : It will be excepted as chosen exception time. (you can choose up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to 5 option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5. T&amp;A time sett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8458200"/>
            <a:ext cx="2808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T&amp;A time setting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8" descr=""/>
          <p:cNvPicPr/>
          <p:nvPr/>
        </p:nvPicPr>
        <p:blipFill>
          <a:blip r:embed="rId1"/>
          <a:stretch/>
        </p:blipFill>
        <p:spPr>
          <a:xfrm>
            <a:off x="1066680" y="3733920"/>
            <a:ext cx="4651560" cy="450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E3A-3CE9-46E4-B6EB-320B5910BC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0280" y="971640"/>
            <a:ext cx="6337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You can register working day only after setting working 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day code will be 4 digits of number and English characte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working day name will appear in working name when you print i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Refer to the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[T&amp;A time setting]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to set working day T&amp;A tim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The code of daily work, holiday, off-day, vacation, business trip should be different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4360"/>
            <a:ext cx="6524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3-6. Register daily 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8001000"/>
            <a:ext cx="28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register daily work scree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860640" y="34920"/>
            <a:ext cx="2953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Register T&amp;A inf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9" name="9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6238800" cy="451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1A6-121E-4BEC-8078-D8CD6D6745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6T10:44:21Z</dcterms:modified>
  <cp:revision>278</cp:revision>
  <dc:subject/>
  <dc:title>PowerPoint 프레젠테이션</dc:title>
</cp:coreProperties>
</file>