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E330-1A7C-4B27-8A0B-A36A0C93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C1DB-9BD1-4C92-A5F3-21481D29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7CC6-9FE5-4EEB-B139-8B5FDB87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D7F-8F5C-4F66-9CB4-83EA5E97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4C35-5043-4055-B7B5-5D7E6A9A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A6E-5D04-4C03-9919-EAE5A719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DAF-2559-47BC-998E-49A65DBA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983B-F3ED-49A9-A6C3-39A2DFE9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018-9F85-4F4B-8574-5CE171CD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B803-FAC3-4971-A9E2-1375ABD1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56A1-AAE2-48A3-93B1-FB98E407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6E4A-5A01-4FB1-B7B3-3A522A5C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33C3-7F17-43FC-9CBC-18391B65389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39680" y="2509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509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773360" y="250920"/>
            <a:ext cx="47512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A caution to use authentication ke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33360" y="90000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n introduction of authentication ke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49360" y="1333440"/>
            <a:ext cx="611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To install authentication key prior to use program since it is usab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only in system which the authentication key is install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33360" y="219564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 caution to use lock dis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49360" y="2629080"/>
            <a:ext cx="60483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You need to store a lock disk since it its essential for collection or reinstallation later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2.      To use it only for authentication install and collection since the disk lock is a special settled disk. It can’t be reused and you need to buy it when you format disk lock. Do not format the program. (Ask a dealer when disk is defective)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33360" y="4716360"/>
            <a:ext cx="6120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 caution to install and collec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04640" y="5221440"/>
            <a:ext cx="612000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49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Install authentication key when install and use T&amp;A program first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To choose system for installation and install authentication key as using disk lock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2.      To collect authentication key as using disk lock, and install authentication key in new system when you want to transfer existing T&amp;A program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3.      To reinstall disk lock when change existing T&amp;A system. Reinstall authentication key after collect authentication key and change the system when T&amp;A program change hardware systems like graphic card, LAN card. (Authentication key will not be collected when you change system without collecting it.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39680" y="2509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509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360" y="90000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uthentication key install guid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9360" y="1332000"/>
            <a:ext cx="6308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1. Input disk lock into floppy disk (A: drive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2. Run “UniKey.exe” after checking disk lock fil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3. Install authentication key by pressing [Install] butt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4. Check installation by pressing [enter] on install check scree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5. Finish installation after checking normal install finish messag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6. “UniKey.bss” file will disappear on disk lock after normal installa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73360" y="250920"/>
            <a:ext cx="47512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Authentication Key Install Gui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46080" y="3276720"/>
            <a:ext cx="4570560" cy="2136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2280" y="5484960"/>
            <a:ext cx="554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Files included in lock disk before or after installation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79560" y="6167520"/>
            <a:ext cx="4537080" cy="2220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63560" y="8459640"/>
            <a:ext cx="554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Files included in lock disk after normal installatio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39680" y="2509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509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33360" y="104292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uthentication key install screen gui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1484280" y="250920"/>
            <a:ext cx="50403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Authentication Key Install Gui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260280" y="3780000"/>
            <a:ext cx="633564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 UniKey.exe running screen before authentication key installatio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620640" y="6084720"/>
            <a:ext cx="56167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Check screen which is appeared while installing authentication key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1339920" y="8172360"/>
            <a:ext cx="453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Normal installation screen 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012680" y="1631880"/>
            <a:ext cx="4864320" cy="2173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023840" y="4211640"/>
            <a:ext cx="4926240" cy="190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700280" y="6800760"/>
            <a:ext cx="3816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39680" y="2509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509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33360" y="536400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uthentication key collection proc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549360" y="5796000"/>
            <a:ext cx="6048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1. Input disk lock to floppy disk (A: drive)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2. Run “UniKey.exe” after checking disk lock fil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3. Collect authentication key by pressing [collect authentication key]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4. Check collection by pressing [enter] on collection check scree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5. Finish Collection after checking normal collection finish messag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6. “UniKey.bss” file will appear on disk lock after normal collecting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57360" y="250920"/>
            <a:ext cx="5327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Authentication key collection gui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33360" y="104292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When you need to collect authentication ke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549360" y="1474920"/>
            <a:ext cx="6048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There are some cases that you need to collect authentication key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1. You can run a program normally by reinstalling authenticati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key after collecting it when you want to move existing program to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other PC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2. You need to collect authentication key when you want to chan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system hardware which is used as T&amp;A program. And you need to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collect and reinstall authentication key before change systems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since it was made to be applied to the system which is set during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Times New Roman"/>
              </a:rPr>
              <a:t>installation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39680" y="250920"/>
          <a:ext cx="144792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50920"/>
                    <a:ext cx="144792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33360" y="1042920"/>
            <a:ext cx="612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uthentication key collection gui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1341360" y="250920"/>
            <a:ext cx="5516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Authentication key collection gui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260280" y="4033800"/>
            <a:ext cx="6335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 UniKey.exe running screen before authentication key collection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765000" y="6156360"/>
            <a:ext cx="5283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Check screen which is appeared while installing authentication key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339920" y="8299440"/>
            <a:ext cx="453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spcBef>
                <a:spcPts val="3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lt; Normal collection screen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65000" y="1547640"/>
            <a:ext cx="5329440" cy="2557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47720" y="4643280"/>
            <a:ext cx="5362560" cy="1440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25360" y="6837480"/>
            <a:ext cx="482472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07:02:23Z</dcterms:created>
  <dc:creator>uc</dc:creator>
  <dc:description/>
  <dc:language>en-US</dc:language>
  <cp:lastModifiedBy>전재라</cp:lastModifiedBy>
  <dcterms:modified xsi:type="dcterms:W3CDTF">2006-07-27T07:42:21Z</dcterms:modified>
  <cp:revision>54</cp:revision>
  <dc:subject/>
  <dc:title>PowerPoint 프레젠테이션</dc:title>
</cp:coreProperties>
</file>